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8C31-816C-41FD-879D-4CA85A1D86E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blog.acm.org/elearn/atom.xml" TargetMode="External"/><Relationship Id="rId2" Type="http://schemas.openxmlformats.org/officeDocument/2006/relationships/hyperlink" Target="http://blog.acm.org/elearn/atom.xml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03DB-1D43-40B1-BE2B-06ACC9BAB1A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4AE6-F904-4CC1-BE52-936A32F5A81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xisting Resourc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synchronous video catalog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ynchronous video stream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3ACD-2C52-4511-9F3D-DB12C182B8D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nline discussion in Learning Technologies and Selec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What are the positive and negative impacts of learning technologies in your world (personal and/or professional)? Consider the challenges faced and the opportunities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how copy&gt;pas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FD71-1F5D-42C3-B879-024B5332FB2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51701760" indent="0"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aller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nter text (from online discussion from Moodl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py and paste 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RL (eLearn Blog -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blog.acm.org/elearn/atom.xml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dit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anguage (common words and word count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ayou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aximum wo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lphabetic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dg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lor Varian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Randomiz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xtract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creen captur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nag-I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int Screen (show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mage edito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py / Pas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ave to public galler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ink to i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ands-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CB12-720A-4D59-9862-2A6F8125E11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nline form creato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anaged in Google Doc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uto create/link to a spreadshe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2DF4-BF8F-49D5-9ADA-4C126728EA1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radition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mative evalu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ass management (survey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3DAF-9E72-4777-ABCE-90AE398DAD1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oogle docs (docs.google.co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oogle accou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reate a form (create a form to evaluate the session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New &gt; For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ext &gt; Paragrap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heckbox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hoose from a lis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rid / Matrix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Required ques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istribute For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RL at botto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mail from Googl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mbed in web pag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iew the form data (show HU summer 2009 clinic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rom For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preadshe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rom Spreadshe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how summary of respons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C973-6BFE-46D6-84C1-52348CFC358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842A-93ED-4652-9DB2-10873289627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ntro Myself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irector of Learning Technolog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ssistant Professor of Learning Technolog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ave 12 years of experience in instructional technology.  A large portion of that was spent doing eLearning design and development in multimedia production companies, independent consulting and in organizational learn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ore recently I’ve been working as a faculty member at the University and integrating learning technologies into my own courses and then working as the Director of Learning Technologies to integrate learning technologies throughout the Univers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02AB-CA62-48EA-939B-35BD0A2C28F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oday I want to primarily talk with you about mindmapping, word clouds and google forms.  I’d like to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mo the technolog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ive you a chance to get hands-on and talk about how to use these tools for assess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ritical thinking and metacogni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Goal:  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xplore the</a:t>
            </a: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of mind mapping tools, word clouds and Google forms for assessment of student learning and evaluating the classroom experience. Critical thinking and meta-cognition are skills that can be enhanced through the techniques and tools that will be explored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Objectives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mo mindmapp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mo word clou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mo google form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alk about how these tools can be used for assessment, critical thinking, metacognition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AC52-FAE6-4824-ADCA-1DB843964DD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udience Analysis  (Put in Logos as wel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indmeister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Wordle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oogle Form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1722-B9D3-4029-8E61-49F958C95F0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entral Theme / Different than a flowchart (top down vs. center out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cept Map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chem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isual Representation of think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47D1-414E-450D-B1FE-C54F151D00F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udent Comprehens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3793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e-existing skill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textual Understand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mative Evalu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ritical thinking (by viewing other students mind map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Note taking / Organizing their think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urse desig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Brainstorm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2D90-4189-4ABD-96FD-EEFA0F867C7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earning Technologies and Soluti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urvey course of learning technolog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udents often come in with a limited view.  Course expands the view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ind map three (3) times during the semester.  Beginning &gt; Middle &gt; End to indicate to me and to them how/if there view of learning technologies is chang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how exampl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Notes:  Emphasize that there is no correct mind map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BE6F-23D8-41C0-BF0D-616151FA9E4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ign up for an account (have students sign up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nod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commen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lin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attachmen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asks (PM too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ic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imag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ands-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ign up for an accou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indmap your experience her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llaborative Mindmap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64FD-395A-4AAD-B27D-8A51494812E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ummarizing text by keywor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arger keywords are more prevalent in the 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isual represent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wordle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www.wordle.net/" TargetMode="External"/><Relationship Id="rId5" Type="http://schemas.openxmlformats.org/officeDocument/2006/relationships/hyperlink" Target="http://www.wordle.net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ndmeiste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HU-PPT-V3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092240" y="2438280"/>
            <a:ext cx="5486400" cy="3303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7178760" y="2419200"/>
            <a:ext cx="4311720" cy="25336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Web 2.0 for Reflection and Assessmen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803160" y="6248520"/>
            <a:ext cx="11703240" cy="10000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assroom 2.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AI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riday, September 25, 2009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8:15-9:15 A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HU-PPT-CONNECT-gr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ssessme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ummarize online discussion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ssess student writ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mpare student writ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3683160" y="4343400"/>
            <a:ext cx="624816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549440" y="1739880"/>
            <a:ext cx="10018800" cy="60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" descr="HU-PPT-V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ord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www.wordle.ne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RE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Web-base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Galler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nter tex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UR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d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xtrac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625760" y="12193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oogle Form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3454560" y="1943280"/>
            <a:ext cx="6172200" cy="60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4" descr="HU-PPT-CONNECT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ssessme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radition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rmative evalu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ass management (surve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9216720" y="4819680"/>
            <a:ext cx="19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3366"/>
                </a:solidFill>
                <a:latin typeface="Wingdings"/>
                <a:ea typeface="Wingdings"/>
              </a:rPr>
              <a:t></a:t>
            </a:r>
            <a:endParaRPr b="0" lang="en-US" sz="1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4" descr="HU-PPT-V3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oogle Form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ocs.google.co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Google Doc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Question Typ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istribut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View the Dat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HU-PPT-blnk-gr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1168560" y="2789280"/>
            <a:ext cx="3200400" cy="21636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664240" y="3017880"/>
            <a:ext cx="685800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wordle.net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mages of wordle.net,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icensed by Creative Comm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4444920" y="4724280"/>
            <a:ext cx="693432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y Petrosk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rector of Learning Techn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sistant Professor of Learning Techn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rrisburg Univers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4597560" y="1676520"/>
            <a:ext cx="36576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131920" y="1295280"/>
            <a:ext cx="370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indmapp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8260920" y="6095880"/>
            <a:ext cx="3695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oogle For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216320" y="2133720"/>
            <a:ext cx="5181480" cy="3801600"/>
            <a:chOff x="4216320" y="2133720"/>
            <a:chExt cx="5181480" cy="3801600"/>
          </a:xfrm>
        </p:grpSpPr>
        <p:pic>
          <p:nvPicPr>
            <p:cNvPr id="544" name="" descr=""/>
            <p:cNvPicPr/>
            <p:nvPr/>
          </p:nvPicPr>
          <p:blipFill>
            <a:blip r:embed="rId2"/>
            <a:stretch/>
          </p:blipFill>
          <p:spPr>
            <a:xfrm>
              <a:off x="4216320" y="2133720"/>
              <a:ext cx="2674440" cy="19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3"/>
            <a:stretch/>
          </p:blipFill>
          <p:spPr>
            <a:xfrm>
              <a:off x="4216320" y="4027320"/>
              <a:ext cx="26744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4"/>
            <a:stretch/>
          </p:blipFill>
          <p:spPr>
            <a:xfrm>
              <a:off x="6723360" y="2133720"/>
              <a:ext cx="2674440" cy="19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5"/>
            <a:stretch/>
          </p:blipFill>
          <p:spPr>
            <a:xfrm>
              <a:off x="6723360" y="4027320"/>
              <a:ext cx="2674440" cy="19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"/>
          <p:cNvSpPr/>
          <p:nvPr/>
        </p:nvSpPr>
        <p:spPr>
          <a:xfrm>
            <a:off x="482760" y="548640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ssessment, Critical thinking, Metacogni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7621920" y="1295280"/>
            <a:ext cx="3398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ord Cloud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HU-PPT-THINK-gr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439720" y="1143000"/>
            <a:ext cx="359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indmeister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5945760" y="3352680"/>
            <a:ext cx="2218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ordl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3119760" y="5334120"/>
            <a:ext cx="3926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oogle Form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indmapp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1397160" y="2057400"/>
            <a:ext cx="10045440" cy="590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HU-PPT-CONNECT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ssessme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tudent Comprehension (and pre-existing skills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textual Understand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rmative Evalu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ritical Think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Note taking (organizing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7264440" y="3657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9550440" y="4495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7950240" y="5943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5664240" y="6019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2997360" y="5562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406440" y="5943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8"/>
          <a:stretch/>
        </p:blipFill>
        <p:spPr>
          <a:xfrm>
            <a:off x="10464840" y="6172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9"/>
          <a:stretch/>
        </p:blipFill>
        <p:spPr>
          <a:xfrm>
            <a:off x="10617120" y="2743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HU-PPT-DISCOVER-gr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50880" y="3733560"/>
            <a:ext cx="11702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y Changing View of Learning Techn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HU-PPT-V3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indMeister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www.mindmeister.co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EE (Level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b-bas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d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ttach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cons and Im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llabora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HU-PPT-DISCOVER-gr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ord Cloud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50880" y="3733560"/>
            <a:ext cx="11702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2158920" y="1828800"/>
            <a:ext cx="8534520" cy="576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petroski</cp:lastModifiedBy>
  <dcterms:modified xsi:type="dcterms:W3CDTF">2009-09-25T13:48:35Z</dcterms:modified>
  <cp:revision>54</cp:revision>
  <dc:subject/>
  <dc:title>Slide 1</dc:title>
</cp:coreProperties>
</file>